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B8E-2639-4C43-B3EB-DE2113F0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88D-5442-4915-B307-9898D62A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A2E-CEDD-475E-A846-3028E5E7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BCF-8C48-4B41-A1CA-BC7FB9A2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6CC-5BFE-443F-A1DC-8F3A87B5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F89-7E24-4115-AC94-5808B511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35E-9459-4E70-A824-25420CE5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C0D-4BB8-431D-9786-41E205B5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60A-866B-4134-8BA1-9A7DDE13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2D2-F760-47F1-B751-814A29BF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BF2-31EB-40A9-9739-19976D11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A78-3CAF-4A66-95B3-2D76AD44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13285C-A305-4711-8F95-39EE7286DF7D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5790960" cy="5002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66520" y="1447560"/>
            <a:ext cx="4496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entury"/>
              </a:rPr>
              <a:t>Easter</a:t>
            </a:r>
            <a:br>
              <a:rPr sz="6000"/>
            </a:br>
            <a:r>
              <a:rPr b="1" lang="es-ES_tradnl" sz="4400" spc="-1" strike="noStrike">
                <a:solidFill>
                  <a:srgbClr val="3333cc"/>
                </a:solidFill>
                <a:latin typeface="Century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Easter B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any bunnies are sold around E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Bunnies are baby rabb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28480" y="1598760"/>
            <a:ext cx="3583080" cy="44971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Century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"/>
              </a:rPr>
              <a:t>More Lessons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entury"/>
              </a:rPr>
              <a:t>www.elcivic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299120"/>
            <a:ext cx="26384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Easter Su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Easter is in the sp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Spring is the season of new begin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n 2009, Easter is on Sunday, Apri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581280" cy="44956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Easter is a religious hol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Some people celebrate by going to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8480" y="1600200"/>
            <a:ext cx="3583080" cy="44974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D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Many families prepare a large meal on this special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Ham dinners are popular on E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8480" y="1600200"/>
            <a:ext cx="3483000" cy="44989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New Clo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People like to wear new clothes on E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emales often wear dresses with floral prints and pretty h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8480" y="1600200"/>
            <a:ext cx="3583080" cy="44974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Easter Eg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hildren color eggs by dipping them in cups of d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fter they color the eggs, they put them in bas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8480" y="1600200"/>
            <a:ext cx="3583080" cy="44974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Easter Bas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Easter baskets are filled with gr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The grass keeps the eggs from bre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8480" y="1598760"/>
            <a:ext cx="3583080" cy="44971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Easter Egg H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Parents hide the  eggs in the backy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When their children wake up on Easter, they look for the eggs and put them in their Easter bas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8480" y="1600200"/>
            <a:ext cx="3583080" cy="44974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L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White lilies represent new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Font typeface="Wingdings" charset="2"/>
              <a:buChar char="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They look beautiful, and they smell wonder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582720" cy="44974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3:57:21Z</dcterms:created>
  <dc:creator>Christina</dc:creator>
  <dc:description/>
  <dc:language>en-US</dc:language>
  <cp:lastModifiedBy>Christina Niven</cp:lastModifiedBy>
  <dcterms:modified xsi:type="dcterms:W3CDTF">2009-04-09T23:28:13Z</dcterms:modified>
  <cp:revision>55</cp:revision>
  <dc:subject/>
  <dc:title>Easter Symbols</dc:title>
</cp:coreProperties>
</file>